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2A9-3E63-4743-8CA6-EB3EF71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55B-2C6A-4D1B-A593-41264370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193-00D1-459E-BFF3-C5981BD2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470-62AA-4549-BCEE-E34381F9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45A-E89F-4137-B12B-2C83626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EA0-F539-452D-A8CC-864A3D6A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83C-2AA8-41B2-869A-A08ACCE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510-F561-40CF-9ECF-32EA07EC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E46-8401-4FB6-90F9-867FDDE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B3A-A2A9-4AF0-A2CB-8391399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D2F-FD79-4AA2-A033-E9C9B2C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74F-78BD-41D7-B2A9-42D7960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A0CF-3BFD-4736-B712-F899A42C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as homework questions – answer at least one of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) Discuss the impact of Web 2.0 o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) What effect has new technology had on the music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) Discuss the ways in which media products are produced and distributed to international, national and local audiences withi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) How are media products marketed and distributed within the music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) How has the audience relationship with the music industry changed over recent yea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wn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tory of (e.g. Napster….illegal vs legal (Apple dominating mark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s (your own, from BPI, Hertforshire etc) – how many download, how much does this cost the industr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ffect has it had? Reduced power of the “big 4” (use EMI as a case study) – given more control to consumer (Marx) – but “big 4” still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wrong? Quote Billy Bragg (music industry healthy, just the “big 4” who are suffering) from Pano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t be stopped (Digital Economy Bill – is it fair that parents are punished for their children download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EXAMPLES FROM YOUR OW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54:11Z</dcterms:created>
  <dc:creator>administrator</dc:creator>
  <dc:description/>
  <dc:language>en-US</dc:language>
  <cp:lastModifiedBy>JAlois</cp:lastModifiedBy>
  <dcterms:modified xsi:type="dcterms:W3CDTF">2011-01-07T13:21:45Z</dcterms:modified>
  <cp:revision>5</cp:revision>
  <dc:subject/>
  <dc:title>Half term homework – answer one of these questions</dc:title>
</cp:coreProperties>
</file>